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48040" y="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931680" y="743040"/>
            <a:ext cx="4933800" cy="369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7440" cy="44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47680" y="9380160"/>
            <a:ext cx="29466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C33AA7-2BFB-4C20-90DD-D3D14A88F1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3480" y="743040"/>
            <a:ext cx="4930920" cy="369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2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пасибо за внимание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9840" y="938052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0917AE-8CE9-4429-AAC5-21116AC172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4D572F-7DE5-4FC4-8FFE-5F8F5A7F54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FB58FE-23E9-4D8D-BDBE-DE33B438BB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F64821-654A-407F-B5D9-330D7C71D0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5240" cy="3700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8040" y="9380520"/>
            <a:ext cx="2948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2BF01D-F27C-4C51-8ABD-F60EA395FB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E715-BB30-4C5D-8AD8-B695F70CB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A6D0-91E9-4E12-A89B-D5917E58A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1170-A9B1-4710-BC68-A6BC381A9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4B52-5214-4D2D-8B8E-E1C6BF1B9D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54DF-CA3F-4D1A-94EE-66F587615C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E073-7E66-4F51-B5FB-5CEAC811C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7063-01C7-455B-BD63-0839089EE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0CCF-FE75-4299-A291-159F48D10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991C-5E10-446F-873E-0C4E953E3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F5AE-6BB6-421A-8CA0-9137E3F9D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7DBB-F0C4-4C4B-8087-75578EACD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01ED-B73E-44D0-8723-C5DBCDD50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E53C4B-21B9-4177-9CCC-95C7AEA55E5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478320" y="6248520"/>
            <a:ext cx="2171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13 ноября 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201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1523880"/>
            <a:ext cx="67057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ынок железнодорожных перевозок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чера. Сегодня. Завтр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6842" r="0" b="5797"/>
          <a:stretch/>
        </p:blipFill>
        <p:spPr>
          <a:xfrm>
            <a:off x="237960" y="152388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0" r="8718" b="6936"/>
          <a:stretch/>
        </p:blipFill>
        <p:spPr>
          <a:xfrm>
            <a:off x="219240" y="3048120"/>
            <a:ext cx="1752480" cy="140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010280" y="304920"/>
            <a:ext cx="1932120" cy="914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38280" y="3809880"/>
            <a:ext cx="6705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лургия и грузоперево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7640" y="4952880"/>
            <a:ext cx="631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.Д. Щербин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едседатель комиссии по транспорту НП «Русская стал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азвитие железнодорожного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028000" y="45396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3505320" cy="16002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альнейшего перспективного развития железнодорожного транспорта РФ не обходимо решить следующи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78280" y="1143000"/>
            <a:ext cx="3505320" cy="121932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нить структуру управления в ОАО «РЖД» для эффективного взаимодействия служб  с целью решения с главной задачи - доставка груза  в с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78280" y="2476440"/>
            <a:ext cx="3505320" cy="12574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инфраструктуры с применением различных форм привлечения капитала, в том числе  и создание цивилизованных механизмов  возврата затрачен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78280" y="3886200"/>
            <a:ext cx="350532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е  конкурентного рынка предоставления ваг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78280" y="4648320"/>
            <a:ext cx="350532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эффективной законодательной б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78280" y="5410080"/>
            <a:ext cx="35053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дание эффективной технологии управления парком ваго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1" idx="3"/>
            <a:endCxn id="132" idx="1"/>
          </p:cNvCxnSpPr>
          <p:nvPr/>
        </p:nvCxnSpPr>
        <p:spPr>
          <a:xfrm flipV="1">
            <a:off x="3962520" y="1752120"/>
            <a:ext cx="816480" cy="202032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38" name=""/>
          <p:cNvCxnSpPr>
            <a:stCxn id="131" idx="3"/>
          </p:cNvCxnSpPr>
          <p:nvPr/>
        </p:nvCxnSpPr>
        <p:spPr>
          <a:xfrm flipV="1">
            <a:off x="3962520" y="2971080"/>
            <a:ext cx="816480" cy="80100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134" idx="1"/>
          </p:cNvCxnSpPr>
          <p:nvPr/>
        </p:nvCxnSpPr>
        <p:spPr>
          <a:xfrm>
            <a:off x="3962520" y="3772080"/>
            <a:ext cx="816480" cy="41976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40" name=""/>
          <p:cNvCxnSpPr>
            <a:stCxn id="131" idx="3"/>
            <a:endCxn id="135" idx="1"/>
          </p:cNvCxnSpPr>
          <p:nvPr/>
        </p:nvCxnSpPr>
        <p:spPr>
          <a:xfrm>
            <a:off x="3962520" y="3772080"/>
            <a:ext cx="816480" cy="118152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41" name=""/>
          <p:cNvCxnSpPr>
            <a:stCxn id="131" idx="3"/>
            <a:endCxn id="136" idx="1"/>
          </p:cNvCxnSpPr>
          <p:nvPr/>
        </p:nvCxnSpPr>
        <p:spPr>
          <a:xfrm>
            <a:off x="3962520" y="3771720"/>
            <a:ext cx="816480" cy="1943640"/>
          </a:xfrm>
          <a:prstGeom prst="bentConnector3">
            <a:avLst>
              <a:gd name="adj1" fmla="val 49977"/>
            </a:avLst>
          </a:prstGeom>
          <a:ln w="9360">
            <a:solidFill>
              <a:srgbClr val="ec9a06"/>
            </a:solidFill>
            <a:round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8427960" y="68580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2DF6F9-BE81-4C18-93E4-4C53BE644AE1}" type="slidenum">
              <a:rPr b="0" lang="ru-RU" sz="12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600200"/>
            <a:ext cx="9144000" cy="434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62320" y="2819520"/>
            <a:ext cx="6553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0" t="6842" r="0" b="5797"/>
          <a:stretch/>
        </p:blipFill>
        <p:spPr>
          <a:xfrm>
            <a:off x="237960" y="160020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rcRect l="0" t="0" r="8718" b="6936"/>
          <a:stretch/>
        </p:blipFill>
        <p:spPr>
          <a:xfrm>
            <a:off x="219240" y="3124080"/>
            <a:ext cx="1752480" cy="1401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28600" y="4626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туация на рынке подвижного состава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2880" y="809640"/>
            <a:ext cx="8607600" cy="3660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72880" y="3987720"/>
            <a:ext cx="8670960" cy="2921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416800" y="72072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792920" y="436680"/>
            <a:ext cx="970200" cy="40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3F9843-83CD-496E-B866-C0F336FA53F0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1520" y="1397160"/>
            <a:ext cx="9091800" cy="2995560"/>
            <a:chOff x="101520" y="1397160"/>
            <a:chExt cx="9091800" cy="299556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101520" y="1397160"/>
              <a:ext cx="9091800" cy="29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01520" y="1397160"/>
              <a:ext cx="9091800" cy="29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47680" y="4343400"/>
            <a:ext cx="8569440" cy="685800"/>
          </a:xfrm>
          <a:prstGeom prst="rect">
            <a:avLst/>
          </a:prstGeom>
          <a:solidFill>
            <a:srgbClr val="f2f2f2"/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Адресный подход к управлению парком, в отличие от централизованного, привел к снижению показателей эффективности работы вагонов и к увеличению доли порожнего пробега до 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582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3520" y="5181480"/>
            <a:ext cx="8569440" cy="1128960"/>
          </a:xfrm>
          <a:prstGeom prst="rect">
            <a:avLst/>
          </a:prstGeom>
          <a:solidFill>
            <a:srgbClr val="d9d9d9">
              <a:alpha val="56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операторам выгоднее предоставлять свой подвижной состав на массовые направления и крупным грузоотправ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прекратил работу принцип общедоступности железнодорожных перевоз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мелкие грузоотправители, не имея возможности переплачивать за вагоны, вынуждены были уйти на другие виды транспорта, в частности на автомоби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менения коэффициента порожнего проб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4582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онная структура ОАО «РЖД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124080"/>
            <a:ext cx="8569440" cy="1219320"/>
          </a:xfrm>
          <a:prstGeom prst="rect">
            <a:avLst/>
          </a:prstGeom>
          <a:solidFill>
            <a:srgbClr val="d9d9d9">
              <a:alpha val="56000"/>
            </a:srgbClr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решения принимаются дол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нет ответственности и взаимопонимания между различными  дирекци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каждая дирекция работает на достижение своих ц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 algn="just">
              <a:buClr>
                <a:srgbClr val="c00000"/>
              </a:buClr>
              <a:buFont typeface="Wingdings" charset="2"/>
              <a:buChar char="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Arial"/>
              </a:rPr>
              <a:t>в случае бросания вагона на пути следования вопрос о его «подъеме» решается только через центральную дирек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2960" y="5133960"/>
            <a:ext cx="8572680" cy="504720"/>
          </a:xfrm>
          <a:prstGeom prst="roundRect">
            <a:avLst>
              <a:gd name="adj" fmla="val 16667"/>
            </a:avLst>
          </a:prstGeom>
          <a:solidFill>
            <a:srgbClr val="ec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сновное требование к ж.д. транспорту - обеспечение бесперебойной работы в таких условиях затрудне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0600" y="1676520"/>
            <a:ext cx="855504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Изменение структуры управления из горизонтально в вертикальную, привело к тому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0800000">
            <a:off x="306000" y="2287080"/>
            <a:ext cx="8666280" cy="787680"/>
          </a:xfrm>
          <a:prstGeom prst="triangle">
            <a:avLst>
              <a:gd name="adj" fmla="val 49903"/>
            </a:avLst>
          </a:prstGeom>
          <a:solidFill>
            <a:srgbClr val="ec6c0a">
              <a:alpha val="68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391680" y="4388760"/>
            <a:ext cx="8580600" cy="717480"/>
          </a:xfrm>
          <a:prstGeom prst="triangle">
            <a:avLst>
              <a:gd name="adj" fmla="val 50000"/>
            </a:avLst>
          </a:prstGeom>
          <a:solidFill>
            <a:srgbClr val="ff0000">
              <a:alpha val="7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ынок железнодорожных перевозок сегод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98600" y="843120"/>
            <a:ext cx="4160880" cy="20271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1200" y="2819520"/>
            <a:ext cx="8729640" cy="1600200"/>
          </a:xfrm>
          <a:prstGeom prst="rect">
            <a:avLst/>
          </a:prstGeom>
          <a:solidFill>
            <a:srgbClr val="a6a6a6">
              <a:alpha val="17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Рынок ж.д. перевозок сегодня, основные проблем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На сети ОАО «РЖД» обращаются около 1100 тыс. выгонов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Имеют место попытки регулирования баланса спроса и предложения вагонов на рынке, искусственно создавая при этом дефицит вагонов (предложение о квотировании вагонов);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Грузовладельцы сталкиваются с примерами значительного увеличения срока доставки грузов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buClr>
                <a:srgbClr val="222268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АО «РЖД» склоняет грузоотправителей к подписанию соглашений об увеличении сроков доставки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200" y="4495680"/>
            <a:ext cx="2471760" cy="2210040"/>
          </a:xfrm>
          <a:prstGeom prst="pie">
            <a:avLst/>
          </a:prstGeom>
          <a:solidFill>
            <a:srgbClr val="f2f2f2"/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федерального закона «О внесении изменений в Федеральный закон «Устав железнодорожного транспорта РФ» и Федеральный закон «О железнодорожном транспорте в РФ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819520" y="4535640"/>
          <a:ext cx="6226200" cy="2093760"/>
        </p:xfrm>
        <a:graphic>
          <a:graphicData uri="http://schemas.openxmlformats.org/drawingml/2006/table">
            <a:tbl>
              <a:tblPr/>
              <a:tblGrid>
                <a:gridCol w="388800"/>
                <a:gridCol w="5837400"/>
              </a:tblGrid>
              <a:tr h="6411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ьшение и исключение ответственности перевозчиков и увеличение ответственности грузоотправителей, грузополучателей и владельцев подвижного сост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ЖД пытается снять с себя ответственность за невыполнение или ненадлежащее выполнение обязанностей по предоставлению пригодных для перевозки вагонов, по выполнению заявок, доставки грузов, в том числе, порожних ваг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-7900000"/>
                      </a:srgbClr>
                    </a:solidFill>
                  </a:tcPr>
                </a:tc>
              </a:tr>
              <a:tr h="62856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зрачность со стороны РЖД в согласовании \ отклонении заявок на перевоз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726080" y="971640"/>
            <a:ext cx="4244760" cy="1847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6328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6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ститут логконтро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476280" y="1066680"/>
          <a:ext cx="8494560" cy="3942000"/>
        </p:xfrm>
        <a:graphic>
          <a:graphicData uri="http://schemas.openxmlformats.org/drawingml/2006/table">
            <a:tbl>
              <a:tblPr/>
              <a:tblGrid>
                <a:gridCol w="4246560"/>
                <a:gridCol w="4248000"/>
              </a:tblGrid>
              <a:tr h="641160">
                <a:tc gridSpan="2"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ТИТУТ ЛОГКОНТРО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rowSpan="6"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tabLst>
                          <a:tab algn="l" pos="0"/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284040">
                        <a:lnSpc>
                          <a:spcPct val="93000"/>
                        </a:lnSpc>
                        <a:tabLst>
                          <a:tab algn="l" pos="0"/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284040">
                        <a:lnSpc>
                          <a:spcPct val="93000"/>
                        </a:lnSpc>
                        <a:tabLst>
                          <a:tab algn="l" pos="0"/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эффективного управления вагонопотоками в условии дефицита инфраструк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ce292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зрачность и не эффективност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олнительная маневровая работ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 проблем на уровне высшего руководств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лечение персонала в решении проблем логконтрол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3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товаривание» станций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  <a:tr h="3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84040" indent="-284040">
                        <a:lnSpc>
                          <a:spcPct val="93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284040"/>
                          <a:tab algn="l" pos="1198440"/>
                          <a:tab algn="l" pos="2112840"/>
                          <a:tab algn="l" pos="3027240"/>
                          <a:tab algn="l" pos="3941640"/>
                          <a:tab algn="l" pos="4856040"/>
                          <a:tab algn="l" pos="5770440"/>
                          <a:tab algn="l" pos="6684840"/>
                          <a:tab algn="l" pos="7599240"/>
                          <a:tab algn="l" pos="8513640"/>
                          <a:tab algn="l" pos="9428040"/>
                          <a:tab algn="l" pos="1034244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бление готовых маршру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0000">
                        <a:alpha val="-360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76280" y="5257800"/>
            <a:ext cx="8494560" cy="642600"/>
          </a:xfrm>
          <a:prstGeom prst="rect">
            <a:avLst/>
          </a:prstGeom>
          <a:solidFill>
            <a:srgbClr val="d9d9d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Любой стандартный вопрос по погрузке и заадресовки вагона превращается в сложную многоуровневую проблему, решаемую только на уровне начальников дорог и вы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632800" y="68904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22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венционные запреты Стран участников Таможенного сою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534520" y="689040"/>
            <a:ext cx="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7280" y="4648320"/>
            <a:ext cx="8839080" cy="9464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Таким образом, теряется универсальность полувагона не только при курсировании на сети РЖД, но и в межгосударственном сообщении. В итоге порожние вагоны операторов РФ вынуждены возвращаться порожними из стран СНГ в том время как к ним навстречу движутся полувагоны стран СНГ из РФ. Это ухудшает и без того сложный перевозочный процесс на пространстве 1520 мм и увеличивает сдачу по стыкам порожних ваго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2280" y="996840"/>
            <a:ext cx="2930400" cy="2660760"/>
          </a:xfrm>
          <a:prstGeom prst="flowChartMultidocument">
            <a:avLst/>
          </a:prstGeom>
          <a:solidFill>
            <a:srgbClr val="f2f2f2"/>
          </a:solidFill>
          <a:ln w="1908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грамма от 16.09.2013 № 012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05320" y="990720"/>
            <a:ext cx="4876560" cy="1582560"/>
          </a:xfrm>
          <a:prstGeom prst="pie">
            <a:avLst/>
          </a:prstGeom>
          <a:solidFill>
            <a:srgbClr val="ff0000">
              <a:alpha val="29000"/>
            </a:srgbClr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венционный запрет на погрузку и заадресовку вагонов Российских операторов на территории КЗХ, с целью обеспечением грузовой базы для вагонов КЗ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2666880"/>
            <a:ext cx="4876560" cy="990720"/>
          </a:xfrm>
          <a:prstGeom prst="pie">
            <a:avLst/>
          </a:prstGeom>
          <a:solidFill>
            <a:srgbClr val="92d050"/>
          </a:solidFill>
          <a:ln w="9360">
            <a:solidFill>
              <a:srgbClr val="ec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тавка за использование вагона КЗХ на 20-30% выше ставки оператора РФ по аналогичному напр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3505320" y="3735360"/>
            <a:ext cx="4876560" cy="838080"/>
          </a:xfrm>
          <a:prstGeom prst="triangle">
            <a:avLst>
              <a:gd name="adj" fmla="val 50000"/>
            </a:avLst>
          </a:prstGeom>
          <a:solidFill>
            <a:srgbClr val="ff0000">
              <a:alpha val="41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990720"/>
            <a:ext cx="8038800" cy="6858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от 70 000 – 100 000 вагонов, простаивают в связи с отсутствием грузовой б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2690640"/>
            <a:ext cx="2571480" cy="119556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атоваривание» подъездных путей пред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2698920"/>
            <a:ext cx="2571480" cy="11872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ческие сбои на предприят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698920"/>
            <a:ext cx="2571480" cy="118728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оизводительные простои ПС в портах и припортовых станц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3887640" y="1698480"/>
            <a:ext cx="990360" cy="946080"/>
          </a:xfrm>
          <a:custGeom>
            <a:avLst/>
            <a:gdLst>
              <a:gd name="textAreaLeft" fmla="*/ 236520 w 990360"/>
              <a:gd name="textAreaRight" fmla="*/ 753840 w 990360"/>
              <a:gd name="textAreaTop" fmla="*/ 236520 h 946080"/>
              <a:gd name="textAreaBottom" fmla="*/ 709560 h 946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281" y="5400"/>
                </a:lnTo>
                <a:lnTo>
                  <a:pt x="11281" y="0"/>
                </a:lnTo>
                <a:lnTo>
                  <a:pt x="21600" y="10800"/>
                </a:lnTo>
                <a:lnTo>
                  <a:pt x="11281" y="21600"/>
                </a:lnTo>
                <a:lnTo>
                  <a:pt x="11281" y="16200"/>
                </a:lnTo>
                <a:lnTo>
                  <a:pt x="0" y="16200"/>
                </a:lnTo>
                <a:lnTo>
                  <a:pt x="51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2600" y="4125960"/>
            <a:ext cx="196200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82800" y="4535640"/>
            <a:ext cx="7704000" cy="5202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сению дополнений в статью 17 ФЗ«О ж.д. транспорте в Р.Ф.» об обязательности договора о временном размещении порожних вагонов, не задействованных в перевоз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63720" y="5105520"/>
            <a:ext cx="7723080" cy="115956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олнению ФЗ «Устав железнодорожного транспорта Р.Ф.» новой статьи, устанавливающей право и условия перемещения перевозчиком или владельцем инфраструктуры порожних вагонов, простаивающих на железнодорожных путях общего пользования железнодорожной станции, на ближайшую свободную станцию отстоя вагонов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8" idx="1"/>
            <a:endCxn id="109" idx="1"/>
          </p:cNvCxnSpPr>
          <p:nvPr/>
        </p:nvCxnSpPr>
        <p:spPr>
          <a:xfrm>
            <a:off x="123480" y="3825720"/>
            <a:ext cx="430920" cy="486720"/>
          </a:xfrm>
          <a:prstGeom prst="bentConnector3">
            <a:avLst>
              <a:gd name="adj1" fmla="val 50000"/>
            </a:avLst>
          </a:prstGeom>
          <a:ln w="19080">
            <a:solidFill>
              <a:srgbClr val="ec9a06"/>
            </a:solidFill>
            <a:round/>
            <a:tailEnd len="med" type="triangle" w="med"/>
          </a:ln>
        </p:spPr>
      </p:cxnSp>
      <p:cxnSp>
        <p:nvCxnSpPr>
          <p:cNvPr id="112" name=""/>
          <p:cNvCxnSpPr>
            <a:stCxn id="108" idx="1"/>
            <a:endCxn id="110" idx="1"/>
          </p:cNvCxnSpPr>
          <p:nvPr/>
        </p:nvCxnSpPr>
        <p:spPr>
          <a:xfrm>
            <a:off x="142920" y="2936520"/>
            <a:ext cx="411840" cy="1375560"/>
          </a:xfrm>
          <a:prstGeom prst="bentConnector3">
            <a:avLst>
              <a:gd name="adj1" fmla="val 49956"/>
            </a:avLst>
          </a:prstGeom>
          <a:ln w="19080">
            <a:solidFill>
              <a:srgbClr val="ec9a06"/>
            </a:solidFill>
            <a:round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8534520" y="689040"/>
            <a:ext cx="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2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зиция НП «Русская Сталь» касательно приказа Минтранса РФ № 25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16000" y="1189080"/>
            <a:ext cx="3127320" cy="1535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0" y="1189080"/>
            <a:ext cx="3127320" cy="1535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14360" y="33526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основанное повышение ста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14360" y="40384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е появление «картельных» с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14360" y="47242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усственный дефицит парка ваг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14360" y="26668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 конкуренции на рын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72160" y="33526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снованное изменение став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72160" y="4038480"/>
            <a:ext cx="2724120" cy="91440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е управление парком ваг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72160" y="2666880"/>
            <a:ext cx="2724120" cy="609840"/>
          </a:xfrm>
          <a:prstGeom prst="rect">
            <a:avLst/>
          </a:prstGeom>
          <a:solidFill>
            <a:srgbClr val="f2f2f2"/>
          </a:solidFill>
          <a:ln w="9360">
            <a:solidFill>
              <a:srgbClr val="ec9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конкуренции на ры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1066680"/>
            <a:ext cx="76320" cy="44197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427960" y="685800"/>
            <a:ext cx="35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2280" y="380880"/>
            <a:ext cx="8569440" cy="50328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аморегулирующиеся объединения операторов, возможные ри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001000" y="436680"/>
            <a:ext cx="969840" cy="40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рис</dc:creator>
  <dc:description/>
  <dc:language>en-US</dc:language>
  <cp:lastModifiedBy>Гавришев Константин Сергеевич</cp:lastModifiedBy>
  <cp:lastPrinted>2013-11-11T10:55:51Z</cp:lastPrinted>
  <dcterms:modified xsi:type="dcterms:W3CDTF">2013-11-11T10:57:14Z</dcterms:modified>
  <cp:revision>7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