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96080" cy="9874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82">
                <a:moveTo>
                  <a:pt x="5" y="0"/>
                </a:moveTo>
                <a:arcTo wR="5" hR="5" stAng="16200000" swAng="-5400000"/>
                <a:lnTo>
                  <a:pt x="0" y="31377"/>
                </a:lnTo>
                <a:arcTo wR="5" hR="5" stAng="10800000" swAng="-5400000"/>
                <a:lnTo>
                  <a:pt x="21595" y="3138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48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48040" y="0"/>
            <a:ext cx="2948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931680" y="743040"/>
            <a:ext cx="4933800" cy="369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7440" cy="44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9380520"/>
            <a:ext cx="2948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47680" y="9380160"/>
            <a:ext cx="294660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66EB49B-6B8B-4918-AC84-8276768270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3480" y="743040"/>
            <a:ext cx="4930920" cy="369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2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пасибо за внимание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49840" y="938052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DE85B26-EADF-4C4F-8555-4359645071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3040"/>
            <a:ext cx="4935240" cy="37004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48040" y="9380520"/>
            <a:ext cx="2948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C69FD4F-153D-480D-91C3-1C5B5EC971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3040"/>
            <a:ext cx="4935240" cy="37004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48040" y="9380520"/>
            <a:ext cx="2948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B8BCB91-20F1-481B-86E2-15D1470A20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3040"/>
            <a:ext cx="4935240" cy="37004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48040" y="9380520"/>
            <a:ext cx="2948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24120C2-8C8A-4012-B1CC-4A2F80F1C8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32040" y="743040"/>
            <a:ext cx="4935240" cy="37004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48040" y="9380520"/>
            <a:ext cx="2948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A05BEA7-FB84-4E69-A009-51BE650EF4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7CE7F-FE1E-43E1-96E0-E2847561A9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2740E-381A-4B05-8665-ACA994D887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2D7C6-0AC9-4F48-8867-F7FF78F83B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623C2-410B-4895-BEB3-C266EFE5D2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1C587-C215-4431-B7EF-51F553E745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B2F9B-5257-46B1-B49A-FB74AB83AA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CD234-2701-4A26-A289-CB7C0F48DC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3F4E8-8C7B-436E-AECA-4F9C566A66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93BBD-F15B-4C96-A84D-302F731DE6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22374-16A0-4898-B39A-6A4C32E20E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47848-CFEC-4636-AA9E-C6133D4141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0DFD0-8ABA-498F-BCEF-8E44E24D21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27668C8-FB21-421F-9BF9-331730184053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478320" y="6248520"/>
            <a:ext cx="2171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Lucida Sans"/>
              </a:rPr>
              <a:t>13 ноября </a:t>
            </a:r>
            <a:r>
              <a:rPr b="1" lang="en-US" sz="1800" spc="-1" strike="noStrike">
                <a:solidFill>
                  <a:srgbClr val="7f7f7f"/>
                </a:solidFill>
                <a:latin typeface="Lucida Sans"/>
              </a:rPr>
              <a:t>201</a:t>
            </a:r>
            <a:r>
              <a:rPr b="1" lang="ru-RU" sz="1800" spc="-1" strike="noStrike">
                <a:solidFill>
                  <a:srgbClr val="7f7f7f"/>
                </a:solidFill>
                <a:latin typeface="Lucida Sans"/>
              </a:rPr>
              <a:t>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447920"/>
            <a:ext cx="9144000" cy="45720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09680" y="1523880"/>
            <a:ext cx="67057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ынок железнодорожных перевозок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чера. Сегодня. Завтра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6842" r="0" b="5797"/>
          <a:stretch/>
        </p:blipFill>
        <p:spPr>
          <a:xfrm>
            <a:off x="237960" y="1523880"/>
            <a:ext cx="1752840" cy="1398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rcRect l="0" t="0" r="8718" b="6936"/>
          <a:stretch/>
        </p:blipFill>
        <p:spPr>
          <a:xfrm>
            <a:off x="219240" y="3048120"/>
            <a:ext cx="1752480" cy="1401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010280" y="304920"/>
            <a:ext cx="1932120" cy="914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438280" y="3809880"/>
            <a:ext cx="6705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таллургия и грузоперевоз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7640" y="4952880"/>
            <a:ext cx="631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.Д. Щербин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едседатель комиссии по транспорту НП «Русская стал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Развитие железнодорожного транспо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028000" y="45396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3505320" cy="160020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дальнейшего перспективного развития железнодорожного транспорта РФ не обходимо решить следующие 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78280" y="1143000"/>
            <a:ext cx="3505320" cy="121932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менить структуру управления в ОАО «РЖД» для эффективного взаимодействия служб  с целью решения с главной задачи - доставка груза  в ср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78280" y="2476440"/>
            <a:ext cx="3505320" cy="125748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тие инфраструктуры с применением различных форм привлечения капитала, в том числе  и создание цивилизованных механизмов  возврата затраченных сред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78280" y="3886200"/>
            <a:ext cx="3505320" cy="60948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тие  конкурентного рынка предоставления ваг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78280" y="4648320"/>
            <a:ext cx="3505320" cy="60948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здание эффективной законодательной баз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78280" y="5410080"/>
            <a:ext cx="3505320" cy="60984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здание эффективной технологии управления парком вагон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1" idx="3"/>
            <a:endCxn id="132" idx="1"/>
          </p:cNvCxnSpPr>
          <p:nvPr/>
        </p:nvCxnSpPr>
        <p:spPr>
          <a:xfrm flipV="1">
            <a:off x="3962520" y="1752120"/>
            <a:ext cx="816480" cy="2020320"/>
          </a:xfrm>
          <a:prstGeom prst="bentConnector3">
            <a:avLst>
              <a:gd name="adj1" fmla="val 49977"/>
            </a:avLst>
          </a:prstGeom>
          <a:ln w="9360">
            <a:solidFill>
              <a:srgbClr val="ec9a06"/>
            </a:solidFill>
            <a:round/>
            <a:tailEnd len="med" type="triangle" w="med"/>
          </a:ln>
        </p:spPr>
      </p:cxnSp>
      <p:cxnSp>
        <p:nvCxnSpPr>
          <p:cNvPr id="138" name=""/>
          <p:cNvCxnSpPr>
            <a:stCxn id="131" idx="3"/>
          </p:cNvCxnSpPr>
          <p:nvPr/>
        </p:nvCxnSpPr>
        <p:spPr>
          <a:xfrm flipV="1">
            <a:off x="3962520" y="2971080"/>
            <a:ext cx="816480" cy="801000"/>
          </a:xfrm>
          <a:prstGeom prst="bentConnector3">
            <a:avLst>
              <a:gd name="adj1" fmla="val 49977"/>
            </a:avLst>
          </a:prstGeom>
          <a:ln w="9360">
            <a:solidFill>
              <a:srgbClr val="ec9a06"/>
            </a:solidFill>
            <a:round/>
            <a:tailEnd len="med" type="triangle" w="med"/>
          </a:ln>
        </p:spPr>
      </p:cxnSp>
      <p:cxnSp>
        <p:nvCxnSpPr>
          <p:cNvPr id="139" name=""/>
          <p:cNvCxnSpPr>
            <a:stCxn id="131" idx="3"/>
            <a:endCxn id="134" idx="1"/>
          </p:cNvCxnSpPr>
          <p:nvPr/>
        </p:nvCxnSpPr>
        <p:spPr>
          <a:xfrm>
            <a:off x="3962520" y="3772080"/>
            <a:ext cx="816480" cy="419760"/>
          </a:xfrm>
          <a:prstGeom prst="bentConnector3">
            <a:avLst>
              <a:gd name="adj1" fmla="val 49977"/>
            </a:avLst>
          </a:prstGeom>
          <a:ln w="9360">
            <a:solidFill>
              <a:srgbClr val="ec9a06"/>
            </a:solidFill>
            <a:round/>
            <a:tailEnd len="med" type="triangle" w="med"/>
          </a:ln>
        </p:spPr>
      </p:cxnSp>
      <p:cxnSp>
        <p:nvCxnSpPr>
          <p:cNvPr id="140" name=""/>
          <p:cNvCxnSpPr>
            <a:stCxn id="131" idx="3"/>
            <a:endCxn id="135" idx="1"/>
          </p:cNvCxnSpPr>
          <p:nvPr/>
        </p:nvCxnSpPr>
        <p:spPr>
          <a:xfrm>
            <a:off x="3962520" y="3772080"/>
            <a:ext cx="816480" cy="1181520"/>
          </a:xfrm>
          <a:prstGeom prst="bentConnector3">
            <a:avLst>
              <a:gd name="adj1" fmla="val 49977"/>
            </a:avLst>
          </a:prstGeom>
          <a:ln w="9360">
            <a:solidFill>
              <a:srgbClr val="ec9a06"/>
            </a:solidFill>
            <a:round/>
            <a:tailEnd len="med" type="triangle" w="med"/>
          </a:ln>
        </p:spPr>
      </p:cxnSp>
      <p:cxnSp>
        <p:nvCxnSpPr>
          <p:cNvPr id="141" name=""/>
          <p:cNvCxnSpPr>
            <a:stCxn id="131" idx="3"/>
            <a:endCxn id="136" idx="1"/>
          </p:cNvCxnSpPr>
          <p:nvPr/>
        </p:nvCxnSpPr>
        <p:spPr>
          <a:xfrm>
            <a:off x="3962520" y="3771720"/>
            <a:ext cx="816480" cy="1943640"/>
          </a:xfrm>
          <a:prstGeom prst="bentConnector3">
            <a:avLst>
              <a:gd name="adj1" fmla="val 49977"/>
            </a:avLst>
          </a:prstGeom>
          <a:ln w="9360">
            <a:solidFill>
              <a:srgbClr val="ec9a06"/>
            </a:solidFill>
            <a:round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8427960" y="685800"/>
            <a:ext cx="35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659640" y="6669000"/>
            <a:ext cx="2133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AF2155D-2A09-4475-B122-36D1924B95CE}" type="slidenum">
              <a:rPr b="0" lang="ru-RU" sz="12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24000" y="663264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600200"/>
            <a:ext cx="9144000" cy="43434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362320" y="2819520"/>
            <a:ext cx="6553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АСИБО ЗА ВНИМАНИЕ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rcRect l="0" t="6842" r="0" b="5797"/>
          <a:stretch/>
        </p:blipFill>
        <p:spPr>
          <a:xfrm>
            <a:off x="237960" y="1600200"/>
            <a:ext cx="1752840" cy="13986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rcRect l="0" t="0" r="8718" b="6936"/>
          <a:stretch/>
        </p:blipFill>
        <p:spPr>
          <a:xfrm>
            <a:off x="219240" y="3124080"/>
            <a:ext cx="1752480" cy="14018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228600" y="4626000"/>
            <a:ext cx="175248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туация на рынке подвижного состава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72880" y="809640"/>
            <a:ext cx="8607600" cy="3660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72880" y="3987720"/>
            <a:ext cx="8670960" cy="2921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416800" y="720720"/>
            <a:ext cx="35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7792920" y="436680"/>
            <a:ext cx="970200" cy="40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4000" y="663264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A577F69-92EE-4D93-A364-72679CE88E3E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01520" y="1397160"/>
            <a:ext cx="9091800" cy="2995560"/>
            <a:chOff x="101520" y="1397160"/>
            <a:chExt cx="9091800" cy="299556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101520" y="1397160"/>
              <a:ext cx="9091800" cy="29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101520" y="1397160"/>
              <a:ext cx="9091800" cy="29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47680" y="4343400"/>
            <a:ext cx="8569440" cy="685800"/>
          </a:xfrm>
          <a:prstGeom prst="rect">
            <a:avLst/>
          </a:prstGeom>
          <a:solidFill>
            <a:srgbClr val="f2f2f2"/>
          </a:solidFill>
          <a:ln w="9360">
            <a:solidFill>
              <a:srgbClr val="ec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Адресный подход к управлению парком, в отличие от централизованного, привел к снижению показателей эффективности работы вагонов и к увеличению доли порожнего пробега до 4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458200" y="689040"/>
            <a:ext cx="35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3520" y="5181480"/>
            <a:ext cx="8569440" cy="1128960"/>
          </a:xfrm>
          <a:prstGeom prst="rect">
            <a:avLst/>
          </a:prstGeom>
          <a:solidFill>
            <a:srgbClr val="d9d9d9">
              <a:alpha val="56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9920" indent="-169920" algn="just">
              <a:buClr>
                <a:srgbClr val="c00000"/>
              </a:buClr>
              <a:buFont typeface="Wingdings" charset="2"/>
              <a:buChar char="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операторам выгоднее предоставлять свой подвижной состав на массовые направления и крупным грузоотправител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buClr>
                <a:srgbClr val="c00000"/>
              </a:buClr>
              <a:buFont typeface="Wingdings" charset="2"/>
              <a:buChar char="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прекратил работу принцип общедоступности железнодорожных перевоз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buClr>
                <a:srgbClr val="c00000"/>
              </a:buClr>
              <a:buFont typeface="Wingdings" charset="2"/>
              <a:buChar char="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мелкие грузоотправители, не имея возможности переплачивать за вагоны, вынуждены были уйти на другие виды транспорта, в частности на автомоби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6280" y="380880"/>
            <a:ext cx="8569440" cy="5032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зменения коэффициента порожнего пробе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001000" y="436680"/>
            <a:ext cx="969840" cy="40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458200" y="689040"/>
            <a:ext cx="35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6280" y="380880"/>
            <a:ext cx="8569440" cy="5032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рганизационная структура ОАО «РЖД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001000" y="436680"/>
            <a:ext cx="969840" cy="401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880" y="3124080"/>
            <a:ext cx="8569440" cy="1219320"/>
          </a:xfrm>
          <a:prstGeom prst="rect">
            <a:avLst/>
          </a:prstGeom>
          <a:solidFill>
            <a:srgbClr val="d9d9d9">
              <a:alpha val="56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9920" indent="-169920" algn="just">
              <a:buClr>
                <a:srgbClr val="c00000"/>
              </a:buClr>
              <a:buFont typeface="Wingdings" charset="2"/>
              <a:buChar char="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решения принимаются долг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buClr>
                <a:srgbClr val="c00000"/>
              </a:buClr>
              <a:buFont typeface="Wingdings" charset="2"/>
              <a:buChar char="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нет ответственности и взаимопонимания между различными  дирекция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buClr>
                <a:srgbClr val="c00000"/>
              </a:buClr>
              <a:buFont typeface="Wingdings" charset="2"/>
              <a:buChar char="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каждая дирекция работает на достижение своих ц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buClr>
                <a:srgbClr val="c00000"/>
              </a:buClr>
              <a:buFont typeface="Wingdings" charset="2"/>
              <a:buChar char="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в случае бросания вагона на пути следования вопрос о его «подъеме» решается только через центральную дирекц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2960" y="5133960"/>
            <a:ext cx="8572680" cy="504720"/>
          </a:xfrm>
          <a:prstGeom prst="roundRect">
            <a:avLst>
              <a:gd name="adj" fmla="val 16667"/>
            </a:avLst>
          </a:prstGeom>
          <a:solidFill>
            <a:srgbClr val="ec6c0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сновное требование к ж.д. транспорту - обеспечение бесперебойной работы в таких условиях затрудне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0600" y="1676520"/>
            <a:ext cx="8555040" cy="6426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Изменение структуры управления из горизонтально в вертикальную, привело к тому, ч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0800000">
            <a:off x="306000" y="2287080"/>
            <a:ext cx="8666280" cy="787680"/>
          </a:xfrm>
          <a:prstGeom prst="triangle">
            <a:avLst>
              <a:gd name="adj" fmla="val 49903"/>
            </a:avLst>
          </a:prstGeom>
          <a:solidFill>
            <a:srgbClr val="ec6c0a">
              <a:alpha val="68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391680" y="4388760"/>
            <a:ext cx="8580600" cy="717480"/>
          </a:xfrm>
          <a:prstGeom prst="triangle">
            <a:avLst>
              <a:gd name="adj" fmla="val 50000"/>
            </a:avLst>
          </a:prstGeom>
          <a:solidFill>
            <a:srgbClr val="ff0000">
              <a:alpha val="7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76280" y="380880"/>
            <a:ext cx="8569440" cy="5032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ынок железнодорожных перевозок сегод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001000" y="436680"/>
            <a:ext cx="969840" cy="401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98600" y="843120"/>
            <a:ext cx="4160880" cy="20271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41200" y="2819520"/>
            <a:ext cx="8729640" cy="1600200"/>
          </a:xfrm>
          <a:prstGeom prst="rect">
            <a:avLst/>
          </a:prstGeom>
          <a:solidFill>
            <a:srgbClr val="a6a6a6">
              <a:alpha val="17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Рынок ж.д. перевозок сегодня, основные проблемы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222268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На сети ОАО «РЖД» обращаются около 1100 тыс. выгонов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222268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Имеют место попытки регулирования баланса спроса и предложения вагонов на рынке, искусственно создавая при этом дефицит вагонов (предложение о квотировании вагонов);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222268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Грузовладельцы сталкиваются с примерами значительного увеличения срока доставки грузов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222268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ОАО «РЖД» склоняет грузоотправителей к подписанию соглашений об увеличении сроков доставки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1200" y="4495680"/>
            <a:ext cx="2471760" cy="2210040"/>
          </a:xfrm>
          <a:prstGeom prst="pie">
            <a:avLst/>
          </a:prstGeom>
          <a:solidFill>
            <a:srgbClr val="f2f2f2"/>
          </a:solidFill>
          <a:ln w="9360">
            <a:solidFill>
              <a:srgbClr val="ec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 федерального закона «О внесении изменений в Федеральный закон «Устав железнодорожного транспорта РФ» и Федеральный закон «О железнодорожном транспорте в РФ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819520" y="4535640"/>
          <a:ext cx="6226200" cy="2093760"/>
        </p:xfrm>
        <a:graphic>
          <a:graphicData uri="http://schemas.openxmlformats.org/drawingml/2006/table">
            <a:tbl>
              <a:tblPr/>
              <a:tblGrid>
                <a:gridCol w="388800"/>
                <a:gridCol w="5837400"/>
              </a:tblGrid>
              <a:tr h="64116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ение и исключение ответственности перевозчиков и увеличение ответственности грузоотправителей, грузополучателей и владельцев подвижного соста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-7900000"/>
                      </a:srgbClr>
                    </a:solidFill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ЖД пытается снять с себя ответственность за невыполнение или ненадлежащее выполнение обязанностей по предоставлению пригодных для перевозки вагонов, по выполнению заявок, доставки грузов, в том числе, порожних ваго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-7900000"/>
                      </a:srgbClr>
                    </a:solidFill>
                  </a:tcPr>
                </a:tc>
              </a:tr>
              <a:tr h="62856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озрачность со стороны РЖД в согласовании \ отклонении заявок на перевоз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726080" y="971640"/>
            <a:ext cx="4244760" cy="1847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632800" y="689040"/>
            <a:ext cx="35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76280" y="380880"/>
            <a:ext cx="8569440" cy="5032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ститут логконтро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001000" y="436680"/>
            <a:ext cx="969840" cy="401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476280" y="1066680"/>
          <a:ext cx="8494560" cy="3942000"/>
        </p:xfrm>
        <a:graphic>
          <a:graphicData uri="http://schemas.openxmlformats.org/drawingml/2006/table">
            <a:tbl>
              <a:tblPr/>
              <a:tblGrid>
                <a:gridCol w="4246560"/>
                <a:gridCol w="4248000"/>
              </a:tblGrid>
              <a:tr h="641160">
                <a:tc gridSpan="2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ТИТУТ ЛОГКОНТРО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rowSpan="6">
                  <a:txBody>
                    <a:bodyPr lIns="90000" rIns="90000" tIns="62640" bIns="46800" anchor="t">
                      <a:noAutofit/>
                    </a:bodyPr>
                    <a:p>
                      <a:pPr marL="284040" indent="-284040">
                        <a:lnSpc>
                          <a:spcPct val="93000"/>
                        </a:lnSpc>
                        <a:tabLst>
                          <a:tab algn="l" pos="0"/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4040" indent="-284040">
                        <a:lnSpc>
                          <a:spcPct val="93000"/>
                        </a:lnSpc>
                        <a:tabLst>
                          <a:tab algn="l" pos="0"/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4040" indent="-284040">
                        <a:lnSpc>
                          <a:spcPct val="93000"/>
                        </a:lnSpc>
                        <a:tabLst>
                          <a:tab algn="l" pos="0"/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4040" indent="-28404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эффективного управления вагонопотоками в условии дефицита инфраструкт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ce292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84040" indent="-28404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озрачность и не эффективность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0000">
                        <a:alpha val="-3600000"/>
                      </a:srgbClr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84040" indent="-28404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олнительная маневровая работ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0000">
                        <a:alpha val="-3600000"/>
                      </a:srgbClr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84040" indent="-28404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ние проблем на уровне высшего руководств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0000">
                        <a:alpha val="-3600000"/>
                      </a:srgbClr>
                    </a:solidFill>
                  </a:tcPr>
                </a:tc>
              </a:tr>
              <a:tr h="64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84040" indent="-28404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лечение персонала в решении проблем логконтрол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0000">
                        <a:alpha val="-3600000"/>
                      </a:srgbClr>
                    </a:solidFill>
                  </a:tcPr>
                </a:tc>
              </a:tr>
              <a:tr h="36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84040" indent="-28404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Затоваривание» станций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0000">
                        <a:alpha val="-3600000"/>
                      </a:srgbClr>
                    </a:solidFill>
                  </a:tcPr>
                </a:tc>
              </a:tr>
              <a:tr h="36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84040" indent="-28404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обление готовых маршру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0000">
                        <a:alpha val="-360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476280" y="5257800"/>
            <a:ext cx="8494560" cy="642600"/>
          </a:xfrm>
          <a:prstGeom prst="rect">
            <a:avLst/>
          </a:prstGeom>
          <a:solidFill>
            <a:srgbClr val="d9d9d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Любой стандартный вопрос по погрузке и заадресовки вагона превращается в сложную многоуровневую проблему, решаемую только на уровне начальников дорог и вы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632800" y="689040"/>
            <a:ext cx="35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22280" y="380880"/>
            <a:ext cx="8569440" cy="5032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нвенционные запреты Стран участников Таможенного сою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001000" y="436680"/>
            <a:ext cx="969840" cy="401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534520" y="689040"/>
            <a:ext cx="358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7280" y="4648320"/>
            <a:ext cx="8839080" cy="94644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Таким образом, теряется универсальность полувагона не только при курсировании на сети РЖД, но и в межгосударственном сообщении. В итоге порожние вагоны операторов РФ вынуждены возвращаться порожними из стран СНГ в том время как к ним навстречу движутся полувагоны стран СНГ из РФ. Это ухудшает и без того сложный перевозочный процесс на пространстве 1520 мм и увеличивает сдачу по стыкам порожних вагон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2280" y="996840"/>
            <a:ext cx="2930400" cy="2660760"/>
          </a:xfrm>
          <a:prstGeom prst="flowChartMultidocument">
            <a:avLst/>
          </a:prstGeom>
          <a:solidFill>
            <a:srgbClr val="f2f2f2"/>
          </a:solidFill>
          <a:ln w="19080">
            <a:solidFill>
              <a:srgbClr val="ec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еграмма от 16.09.2013 № 0122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05320" y="990720"/>
            <a:ext cx="4876560" cy="1582560"/>
          </a:xfrm>
          <a:prstGeom prst="pie">
            <a:avLst/>
          </a:prstGeom>
          <a:solidFill>
            <a:srgbClr val="ff0000">
              <a:alpha val="29000"/>
            </a:srgbClr>
          </a:solidFill>
          <a:ln w="9360">
            <a:solidFill>
              <a:srgbClr val="ec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онвенционный запрет на погрузку и заадресовку вагонов Российских операторов на территории КЗХ, с целью обеспечением грузовой базы для вагонов КЗ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05320" y="2666880"/>
            <a:ext cx="4876560" cy="990720"/>
          </a:xfrm>
          <a:prstGeom prst="pie">
            <a:avLst/>
          </a:prstGeom>
          <a:solidFill>
            <a:srgbClr val="92d050"/>
          </a:solidFill>
          <a:ln w="9360">
            <a:solidFill>
              <a:srgbClr val="ec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тавка за использование вагона КЗХ на 20-30% выше ставки оператора РФ по аналогичному направл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0800000">
            <a:off x="3505320" y="3735360"/>
            <a:ext cx="4876560" cy="838080"/>
          </a:xfrm>
          <a:prstGeom prst="triangle">
            <a:avLst>
              <a:gd name="adj" fmla="val 50000"/>
            </a:avLst>
          </a:prstGeom>
          <a:solidFill>
            <a:srgbClr val="ff0000">
              <a:alpha val="41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4000" y="990720"/>
            <a:ext cx="8038800" cy="68580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годня от 70 000 – 100 000 вагонов, простаивают в связи с отсутствием грузовой б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2690640"/>
            <a:ext cx="2571480" cy="119556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Затоваривание» подъездных путей предпри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8120" y="2698920"/>
            <a:ext cx="2571480" cy="118728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ческие сбои на предприят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91320" y="2698920"/>
            <a:ext cx="2571480" cy="118728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производительные простои ПС в портах и припортовых станц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3887640" y="1698480"/>
            <a:ext cx="990360" cy="946080"/>
          </a:xfrm>
          <a:custGeom>
            <a:avLst/>
            <a:gdLst>
              <a:gd name="textAreaLeft" fmla="*/ 236520 w 990360"/>
              <a:gd name="textAreaRight" fmla="*/ 753840 w 990360"/>
              <a:gd name="textAreaTop" fmla="*/ 236520 h 946080"/>
              <a:gd name="textAreaBottom" fmla="*/ 709560 h 946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1281" y="5400"/>
                </a:lnTo>
                <a:lnTo>
                  <a:pt x="11281" y="0"/>
                </a:lnTo>
                <a:lnTo>
                  <a:pt x="21600" y="10800"/>
                </a:lnTo>
                <a:lnTo>
                  <a:pt x="11281" y="21600"/>
                </a:lnTo>
                <a:lnTo>
                  <a:pt x="11281" y="16200"/>
                </a:lnTo>
                <a:lnTo>
                  <a:pt x="0" y="16200"/>
                </a:lnTo>
                <a:lnTo>
                  <a:pt x="516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2600" y="4125960"/>
            <a:ext cx="1962000" cy="3682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БХОДИМ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82800" y="4535640"/>
            <a:ext cx="7704000" cy="52020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есению дополнений в статью 17 ФЗ«О ж.д. транспорте в Р.Ф.» об обязательности договора о временном размещении порожних вагонов, не задействованных в перевоз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63720" y="5105520"/>
            <a:ext cx="7723080" cy="115956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полнению ФЗ «Устав железнодорожного транспорта Р.Ф.» новой статьи, устанавливающей право и условия перемещения перевозчиком или владельцем инфраструктуры порожних вагонов, простаивающих на железнодорожных путях общего пользования железнодорожной станции, на ближайшую свободную станцию отстоя вагонов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8" idx="1"/>
            <a:endCxn id="109" idx="1"/>
          </p:cNvCxnSpPr>
          <p:nvPr/>
        </p:nvCxnSpPr>
        <p:spPr>
          <a:xfrm>
            <a:off x="123480" y="3825720"/>
            <a:ext cx="430920" cy="486720"/>
          </a:xfrm>
          <a:prstGeom prst="bentConnector3">
            <a:avLst>
              <a:gd name="adj1" fmla="val 50000"/>
            </a:avLst>
          </a:prstGeom>
          <a:ln w="19080">
            <a:solidFill>
              <a:srgbClr val="ec9a06"/>
            </a:solidFill>
            <a:round/>
            <a:tailEnd len="med" type="triangle" w="med"/>
          </a:ln>
        </p:spPr>
      </p:cxnSp>
      <p:cxnSp>
        <p:nvCxnSpPr>
          <p:cNvPr id="112" name=""/>
          <p:cNvCxnSpPr>
            <a:stCxn id="108" idx="1"/>
            <a:endCxn id="110" idx="1"/>
          </p:cNvCxnSpPr>
          <p:nvPr/>
        </p:nvCxnSpPr>
        <p:spPr>
          <a:xfrm>
            <a:off x="142920" y="2936520"/>
            <a:ext cx="411840" cy="1375560"/>
          </a:xfrm>
          <a:prstGeom prst="bentConnector3">
            <a:avLst>
              <a:gd name="adj1" fmla="val 49956"/>
            </a:avLst>
          </a:prstGeom>
          <a:ln w="19080">
            <a:solidFill>
              <a:srgbClr val="ec9a06"/>
            </a:solidFill>
            <a:round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8534520" y="689040"/>
            <a:ext cx="358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2280" y="380880"/>
            <a:ext cx="8569440" cy="5032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зиция НП «Русская Сталь» касательно приказа Минтранса РФ № 25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8001000" y="436680"/>
            <a:ext cx="969840" cy="40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16000" y="1189080"/>
            <a:ext cx="3127320" cy="15350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572000" y="1189080"/>
            <a:ext cx="3127320" cy="15350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314360" y="3352680"/>
            <a:ext cx="2724120" cy="60984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боснованное повышение ста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14360" y="4038480"/>
            <a:ext cx="2724120" cy="60984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е появление «картельных» сгов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14360" y="4724280"/>
            <a:ext cx="2724120" cy="60984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кусственный дефицит парка ваг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14360" y="2666880"/>
            <a:ext cx="2724120" cy="60984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сутствие конкуренции на рын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72160" y="3352680"/>
            <a:ext cx="2724120" cy="60984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основанное изменение став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72160" y="4038480"/>
            <a:ext cx="2724120" cy="91440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ффективное управление парком ваг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72160" y="2666880"/>
            <a:ext cx="2724120" cy="60984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конкуренции на рын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43400" y="1066680"/>
            <a:ext cx="76320" cy="44197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427960" y="685800"/>
            <a:ext cx="35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2280" y="380880"/>
            <a:ext cx="8569440" cy="5032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аморегулирующиеся объединения операторов, возможные рис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8001000" y="436680"/>
            <a:ext cx="969840" cy="401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Борис</dc:creator>
  <dc:description/>
  <dc:language>en-US</dc:language>
  <cp:lastModifiedBy>Гавришев Константин Сергеевич</cp:lastModifiedBy>
  <cp:lastPrinted>2013-11-11T10:55:51Z</cp:lastPrinted>
  <dcterms:modified xsi:type="dcterms:W3CDTF">2013-11-11T10:57:14Z</dcterms:modified>
  <cp:revision>7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