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4804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31680" y="743040"/>
            <a:ext cx="493380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47680" y="9380160"/>
            <a:ext cx="2946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39AECC-07A9-4721-8D28-FDB2474AB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2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9840" y="938052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AA2061-06EF-4797-BD24-DA60A38939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6488A0-DD00-480D-B523-FF34661D5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DEEC1D-1095-4644-B605-420CFE9AB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21A6FF-76AB-4BF8-A471-97B943C9DD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B81652-A304-436F-A2F6-7A01F0A3E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0137-8339-4DB9-993B-937B650B6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7282-1B70-4D35-B9E0-351D7152E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226A-15CE-40D9-B676-F23F1DEA8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7CCC-8466-4C25-B80D-B32965A9AE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3455-A254-4A9E-880C-0CCA5EFF1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7D79-7D3C-4FE1-B85A-308F50A87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DB49-232F-4D94-9C09-A3D563892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DA9C-8F08-4F2D-A818-32B536667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D26A-B2AC-4F18-A348-F98CFC493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7A84-2B7C-4709-B842-6FC50DC1A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4DDD-009A-4DD3-9F06-FC871353F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AF38-7EA2-4AFA-A8C2-C7A5B499F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7563A4-724B-4B9F-AEC3-2E6AE248DC5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78320" y="6248520"/>
            <a:ext cx="21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3 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523880"/>
            <a:ext cx="6705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чера. Сегодня. Завтр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8280" y="380988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лургия и грузоперево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640" y="4952880"/>
            <a:ext cx="63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Д. Щербин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дседатель комиссии по транспорту НП «Русская стал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звитие железнодорожного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028000" y="45396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3505320" cy="160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альнейшего перспективного развития железнодорожного транспорта РФ не обходимо решить следующ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78280" y="1143000"/>
            <a:ext cx="3505320" cy="121932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ить структуру управления в ОАО «РЖД» для эффективного взаимодействия служб  с целью решения с главной задачи - доставка груза  в с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78280" y="2476440"/>
            <a:ext cx="3505320" cy="1257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инфраструктуры с применением различных форм привлечения капитала, в том числе  и создание цивилизованных механизмов  возврата затрачен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78280" y="388620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 конкурентного рынка предоставления ваг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8280" y="464832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законодательной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78280" y="5410080"/>
            <a:ext cx="35053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технологии управления парком ваг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1" idx="3"/>
            <a:endCxn id="132" idx="1"/>
          </p:cNvCxnSpPr>
          <p:nvPr/>
        </p:nvCxnSpPr>
        <p:spPr>
          <a:xfrm flipV="1">
            <a:off x="3962520" y="1752120"/>
            <a:ext cx="816480" cy="20203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8" name=""/>
          <p:cNvCxnSpPr>
            <a:stCxn id="131" idx="3"/>
          </p:cNvCxnSpPr>
          <p:nvPr/>
        </p:nvCxnSpPr>
        <p:spPr>
          <a:xfrm flipV="1">
            <a:off x="3962520" y="2971080"/>
            <a:ext cx="816480" cy="80100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134" idx="1"/>
          </p:cNvCxnSpPr>
          <p:nvPr/>
        </p:nvCxnSpPr>
        <p:spPr>
          <a:xfrm>
            <a:off x="3962520" y="3772080"/>
            <a:ext cx="816480" cy="41976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0" name=""/>
          <p:cNvCxnSpPr>
            <a:stCxn id="131" idx="3"/>
            <a:endCxn id="135" idx="1"/>
          </p:cNvCxnSpPr>
          <p:nvPr/>
        </p:nvCxnSpPr>
        <p:spPr>
          <a:xfrm>
            <a:off x="3962520" y="3772080"/>
            <a:ext cx="816480" cy="11815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1" name=""/>
          <p:cNvCxnSpPr>
            <a:stCxn id="131" idx="3"/>
            <a:endCxn id="136" idx="1"/>
          </p:cNvCxnSpPr>
          <p:nvPr/>
        </p:nvCxnSpPr>
        <p:spPr>
          <a:xfrm>
            <a:off x="3962520" y="3771720"/>
            <a:ext cx="816480" cy="194364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A1F8CF-EDAB-4659-BC35-65AB85BD7182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туация на рынке подвижного соста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2880" y="809640"/>
            <a:ext cx="8607600" cy="3660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2880" y="3987720"/>
            <a:ext cx="8670960" cy="2921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416800" y="72072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792920" y="436680"/>
            <a:ext cx="97020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4CA73F-9C5A-4318-A933-E6E0E0F5A6AC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1520" y="1397160"/>
            <a:ext cx="9091800" cy="2995560"/>
            <a:chOff x="101520" y="1397160"/>
            <a:chExt cx="9091800" cy="29955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01520" y="1397160"/>
              <a:ext cx="909180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01520" y="1397160"/>
              <a:ext cx="9091800" cy="29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47680" y="4343400"/>
            <a:ext cx="856944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дресный подход к управлению парком, в отличие от централизованного, привел к снижению показателей эффективности работы вагонов и к увеличению доли порожнего пробега до 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3520" y="5181480"/>
            <a:ext cx="8569440" cy="112896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операторам выгоднее предоставлять свой подвижной состав на массовые направления и крупным грузоотправ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прекратил работу принцип общедоступности железнодорожных перевоз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мелкие грузоотправители, не имея возможности переплачивать за вагоны, вынуждены были уйти на другие виды транспорта, в частности на автомоби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менения коэффициента порожнего проб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структура ОАО «РЖ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124080"/>
            <a:ext cx="8569440" cy="121932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решения принимаются дол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нет ответственности и взаимопонимания между различными  дирекци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каждая дирекция работает на достижение свои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в случае бросания вагона на пути следования вопрос о его «подъеме» решается только через центральную дире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2960" y="5133960"/>
            <a:ext cx="8572680" cy="504720"/>
          </a:xfrm>
          <a:prstGeom prst="roundRect">
            <a:avLst>
              <a:gd name="adj" fmla="val 16667"/>
            </a:avLst>
          </a:prstGeom>
          <a:solidFill>
            <a:srgbClr val="ec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ое требование к ж.д. транспорту - обеспечение бесперебойной работы в таких условиях затрудне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0600" y="1676520"/>
            <a:ext cx="85550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зменение структуры управления из горизонтально в вертикальную, привело к тому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306000" y="2287080"/>
            <a:ext cx="8666280" cy="787680"/>
          </a:xfrm>
          <a:prstGeom prst="triangle">
            <a:avLst>
              <a:gd name="adj" fmla="val 49903"/>
            </a:avLst>
          </a:prstGeom>
          <a:solidFill>
            <a:srgbClr val="ec6c0a">
              <a:alpha val="6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391680" y="4388760"/>
            <a:ext cx="8580600" cy="717480"/>
          </a:xfrm>
          <a:prstGeom prst="triangle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8600" y="843120"/>
            <a:ext cx="4160880" cy="2027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200" y="2819520"/>
            <a:ext cx="8729640" cy="1600200"/>
          </a:xfrm>
          <a:prstGeom prst="rect">
            <a:avLst/>
          </a:prstGeom>
          <a:solidFill>
            <a:srgbClr val="a6a6a6">
              <a:alpha val="1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нок ж.д. перевозок сегодня, основные проблем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 сети ОАО «РЖД» обращаются около 1100 тыс. выгонов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меют место попытки регулирования баланса спроса и предложения вагонов на рынке, искусственно создавая при этом дефицит вагонов (предложение о квотировании вагонов);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рузовладельцы сталкиваются с примерами значительного увеличения срока доставки грузов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АО «РЖД» склоняет грузоотправителей к подписанию соглашений об увеличении сроков достав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200" y="4495680"/>
            <a:ext cx="2471760" cy="2210040"/>
          </a:xfrm>
          <a:prstGeom prst="pie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федерального закона «О внесении изменений в Федеральный закон «Устав железнодорожного транспорта РФ» и Федеральный закон «О железнодорожном транспорте в РФ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19520" y="4535640"/>
          <a:ext cx="6226200" cy="2093760"/>
        </p:xfrm>
        <a:graphic>
          <a:graphicData uri="http://schemas.openxmlformats.org/drawingml/2006/table">
            <a:tbl>
              <a:tblPr/>
              <a:tblGrid>
                <a:gridCol w="388800"/>
                <a:gridCol w="5837400"/>
              </a:tblGrid>
              <a:tr h="6411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 и исключение ответственности перевозчиков и увеличение ответственности грузоотправителей, грузополучателей и владельцев подвижн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ЖД пытается снять с себя ответственность за невыполнение или ненадлежащее выполнение обязанностей по предоставлению пригодных для перевозки вагонов, по выполнению заявок, доставки грузов, в том числе, порожних ваг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6285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со стороны РЖД в согласовании \ отклонении заявок на перевоз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26080" y="971640"/>
            <a:ext cx="4244760" cy="1847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тут логконтр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76280" y="1066680"/>
          <a:ext cx="8494560" cy="3942000"/>
        </p:xfrm>
        <a:graphic>
          <a:graphicData uri="http://schemas.openxmlformats.org/drawingml/2006/table">
            <a:tbl>
              <a:tblPr/>
              <a:tblGrid>
                <a:gridCol w="4246560"/>
                <a:gridCol w="4248000"/>
              </a:tblGrid>
              <a:tr h="64116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ИТУТ ЛОГ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rowSpan="6"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эффективного управления вагонопотоками в условии дефицита инфра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ce292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и не эффектив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маневровая работ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проблем на уровне высшего руковод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лечение персонала в решении проблем логконтро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товаривание» стан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ие готовых маршру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6280" y="5257800"/>
            <a:ext cx="8494560" cy="642600"/>
          </a:xfrm>
          <a:prstGeom prst="rect">
            <a:avLst/>
          </a:pr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Любой стандартный вопрос по погрузке и заадресовки вагона превращается в сложную многоуровневую проблему, решаемую только на уровне начальников дорог и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венционные запреты Стран участников Таможенного сою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280" y="4648320"/>
            <a:ext cx="8839080" cy="9464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аким образом, теряется универсальность полувагона не только при курсировании на сети РЖД, но и в межгосударственном сообщении. В итоге порожние вагоны операторов РФ вынуждены возвращаться порожними из стран СНГ в том время как к ним навстречу движутся полувагоны стран СНГ из РФ. Это ухудшает и без того сложный перевозочный процесс на пространстве 1520 мм и увеличивает сдачу по стыкам порожних ваго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2280" y="996840"/>
            <a:ext cx="2930400" cy="2660760"/>
          </a:xfrm>
          <a:prstGeom prst="flowChartMultidocument">
            <a:avLst/>
          </a:prstGeom>
          <a:solidFill>
            <a:srgbClr val="f2f2f2"/>
          </a:solidFill>
          <a:ln w="1908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ма от 16.09.2013 № 012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990720"/>
            <a:ext cx="4876560" cy="1582560"/>
          </a:xfrm>
          <a:prstGeom prst="pie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венционный запрет на погрузку и заадресовку вагонов Российских операторов на территории КЗХ, с целью обеспечением грузовой базы для вагонов КЗ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2666880"/>
            <a:ext cx="4876560" cy="990720"/>
          </a:xfrm>
          <a:prstGeom prst="pie">
            <a:avLst/>
          </a:prstGeom>
          <a:solidFill>
            <a:srgbClr val="92d050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вка за использование вагона КЗХ на 20-30% выше ставки оператора РФ по аналогичному на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3505320" y="3735360"/>
            <a:ext cx="4876560" cy="838080"/>
          </a:xfrm>
          <a:prstGeom prst="triangle">
            <a:avLst>
              <a:gd name="adj" fmla="val 50000"/>
            </a:avLst>
          </a:prstGeom>
          <a:solidFill>
            <a:srgbClr val="ff0000">
              <a:alpha val="41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990720"/>
            <a:ext cx="803880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от 70 000 – 100 000 вагонов, простаивают в связи с отсутствием грузовой б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690640"/>
            <a:ext cx="2571480" cy="1195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товаривание» подъездных путей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еские сбои на предприят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оизводительные простои ПС в портах и припортовых стан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887640" y="1698480"/>
            <a:ext cx="990360" cy="946080"/>
          </a:xfrm>
          <a:custGeom>
            <a:avLst/>
            <a:gdLst>
              <a:gd name="textAreaLeft" fmla="*/ 236520 w 990360"/>
              <a:gd name="textAreaRight" fmla="*/ 753840 w 990360"/>
              <a:gd name="textAreaTop" fmla="*/ 236520 h 946080"/>
              <a:gd name="textAreaBottom" fmla="*/ 709560 h 94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281" y="5400"/>
                </a:lnTo>
                <a:lnTo>
                  <a:pt x="11281" y="0"/>
                </a:lnTo>
                <a:lnTo>
                  <a:pt x="21600" y="10800"/>
                </a:lnTo>
                <a:lnTo>
                  <a:pt x="11281" y="21600"/>
                </a:lnTo>
                <a:lnTo>
                  <a:pt x="11281" y="16200"/>
                </a:lnTo>
                <a:lnTo>
                  <a:pt x="0" y="16200"/>
                </a:lnTo>
                <a:lnTo>
                  <a:pt x="5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2600" y="4125960"/>
            <a:ext cx="19620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82800" y="4535640"/>
            <a:ext cx="770400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ю дополнений в статью 17 ФЗ«О ж.д. транспорте в Р.Ф.» об обязательности договора о временном размещении порожних вагонов, не задействованных в перевоз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3720" y="5105520"/>
            <a:ext cx="7723080" cy="1159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ению ФЗ «Устав железнодорожного транспорта Р.Ф.» новой статьи, устанавливающей право и условия перемещения перевозчиком или владельцем инфраструктуры порожних вагонов, простаивающих на железнодорожных путях общего пользования железнодорожной станции, на ближайшую свободную станцию отстоя вагонов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8" idx="1"/>
            <a:endCxn id="109" idx="1"/>
          </p:cNvCxnSpPr>
          <p:nvPr/>
        </p:nvCxnSpPr>
        <p:spPr>
          <a:xfrm>
            <a:off x="123480" y="3825720"/>
            <a:ext cx="430920" cy="486720"/>
          </a:xfrm>
          <a:prstGeom prst="bentConnector3">
            <a:avLst>
              <a:gd name="adj1" fmla="val 50000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12" name=""/>
          <p:cNvCxnSpPr>
            <a:stCxn id="108" idx="1"/>
            <a:endCxn id="110" idx="1"/>
          </p:cNvCxnSpPr>
          <p:nvPr/>
        </p:nvCxnSpPr>
        <p:spPr>
          <a:xfrm>
            <a:off x="142920" y="2936520"/>
            <a:ext cx="411840" cy="1375560"/>
          </a:xfrm>
          <a:prstGeom prst="bentConnector3">
            <a:avLst>
              <a:gd name="adj1" fmla="val 49956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зиция НП «Русская Сталь» касательно приказа Минтранса РФ № 25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1189080"/>
            <a:ext cx="3127320" cy="153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189080"/>
            <a:ext cx="3127320" cy="1535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143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основанное повышение ста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14360" y="40384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е появление «картельных» с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14360" y="47242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енный дефицит парка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143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конкуренции на ры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21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нованное изменение ста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72160" y="4038480"/>
            <a:ext cx="2724120" cy="9144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е управление парком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721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конкуренции на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1066680"/>
            <a:ext cx="76320" cy="4419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морегулирующиеся объединения операторов, возможные ри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Гавришев Константин Сергеевич</cp:lastModifiedBy>
  <cp:lastPrinted>2013-11-11T10:55:51Z</cp:lastPrinted>
  <dcterms:modified xsi:type="dcterms:W3CDTF">2013-11-11T10:57:14Z</dcterms:modified>
  <cp:revision>7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